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33FD-5B04-43CC-B8B4-5EBABA4B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D837-0E40-4311-83CE-E470A884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6C99-BC48-40AC-8958-D0CA48B4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DFE6-907A-49ED-8652-E6CDEF9E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D3A9-10C3-4EE6-9462-691C190F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807C-4CFE-4714-95F0-80D94254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7FF9-7D49-4ACC-BEF1-B5C1A73F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B947-6C33-4F91-9A44-077B9764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5159-9AE2-4F01-AB79-79145628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C90A-9C41-4A14-B62B-5E1DE759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70C0-7266-486C-8574-FF90E55F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2950-D740-480B-A52E-312FD9E9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D0E3-7ACE-47EF-A9C9-C9B3FDA2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CF3B-E813-4C0F-8B5B-3F46877D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3923-5413-4683-8659-106A2F35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F291-8172-45EA-A8D7-BE38B171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6684-FBC6-4FEA-9A70-FAF0E622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B212-A3BB-42E8-A3CD-355505E1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B48D-A235-42A3-95D4-B5AC9010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F0A5A-726A-49EC-94DB-6668128E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C85E-2C28-494D-B0B1-84F0CEF8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A6F6D-34FC-4FE0-9851-79A0FBBD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37AF-C32E-41B8-9300-A75AF1EB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F45E-6A78-4CBE-8460-DA472766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C5AE-0302-4117-9795-5A2C531086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8E17-C211-41FE-9087-BCA3A41307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Устный журнал.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Синичкин праздник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Синичкин праздник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95280" y="1752480"/>
            <a:ext cx="64008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6094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1 страница</a:t>
            </a:r>
            <a:br>
              <a:rPr sz="5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2 ноября –Зиновий или Синичкин праздник.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Народная мудрость гласит: «невелика птичка- синичка а и то свой праздник помнит».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В народном календаре этот день считается днём прилёта птиц-зимников. С этого дня в старину начинали развешивать кормушки для птиц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 страница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иничья стайк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ольшая синиц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азорев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иннохвостая синица (ополовник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охлатая синица (гренадёр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аич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сков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ме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сатая син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 страница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тичья столова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 птицам живётся зимой: холодно и голодно. Холод ещё не так страшен, страшна зимняя бескормица. Каждая из синиц за день съедает столько насекомых, сколько весит сам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 страница.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этическа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атая синиц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 найдёшь синицы ярче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м усатый наш гусарчи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аль, в болотах он живё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остникам одним поё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линнохвостая синица-ополовни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ленький половниче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лозняке домовнича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ам пушист и длиннохвос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мик строил на прирос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мез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мез наш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чной пернатый ткачик,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итрый мастер он среди синиц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тростниковый пух свой домик спряче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лювом свяжет варежку без спиц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 страница.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грова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7-07T22:40:5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